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33C8-6FAD-448E-A872-3E1C45041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36BF-3C19-41C0-85E8-C55A7B4E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E493-1565-4BAE-88D5-385A62A1D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C705-0545-45C5-B15F-7478B0A1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7AE5-E416-4CED-8B14-1ECC7D38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B24E-7C80-423F-B093-BB7E21A5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3EB4-BF89-4258-9668-D8B9DF21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8018-0789-48D9-AE86-78C8A21D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1D79-019C-46AE-8A64-3A7288B1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5CAA-95F9-4D27-8B4F-3CE7D60F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A5D7-EA30-469F-B6C1-862C5D4D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42FE-DBAB-412E-982F-430BB74F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23C6-1377-452C-B3E3-8EFEEE35B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701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7 de mayo del 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75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A ti te gusta la mus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rite 3 sentences with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ustar, interesar, aburrir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e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remember to use the noun phrases to clarif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rite 3 sentences with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ar, examinar, explica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using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es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remember to use the noun phrases to clarif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REPASO VERBAL DE LA TAREA 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pia y completa la conversac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CTOR: Jose, ¿Dónde (1)____ due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SE:  Ay, doctor. (2)____ duele en todas partes. (3)____ duele la cabeza, (4)_____ duele la gargant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CTOR:Muy bien, Jose. (5)_____ voy a examinar. ¿(6)_____ permit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e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10 (1-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10 (1-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457200" y="228600"/>
            <a:ext cx="82296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533520" y="2514600"/>
            <a:ext cx="82296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area # 75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00:39:42Z</dcterms:created>
  <dc:creator>Helen Zumaeta</dc:creator>
  <dc:description/>
  <dc:language>en-US</dc:language>
  <cp:lastModifiedBy>Helen Zumaeta</cp:lastModifiedBy>
  <dcterms:modified xsi:type="dcterms:W3CDTF">2015-05-07T20:56:07Z</dcterms:modified>
  <cp:revision>30</cp:revision>
  <dc:subject/>
  <dc:title>Me llamo ________ Clase 7 im La fecha es el 13 de mayo del 2011</dc:title>
</cp:coreProperties>
</file>